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5F4-D223-42DA-A8A0-3AA2174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027-D0E6-48EB-9CA2-4BB4B6E1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8C4-0A5D-44EC-84D0-8542D998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1FC-10BF-48FB-B923-9D9799DB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8D4F-73BD-444A-86D9-CB72939B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6ED-B179-40C7-B5DE-A3D731A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ACB-8D0C-408F-952E-6414B96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762C-302C-4CA2-A4DB-97B0B153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3C1A-59AA-4E10-9B25-20D6A92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565-8ABC-4511-A334-810F023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59BC-7088-4E47-BE2C-F5492F5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CBD-9214-4B99-813C-E38CE1D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879-4CFA-462E-A6E2-BD86FC3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4F5-3D27-42B2-B907-97221CE6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1C9-6218-4ED3-9D47-1614B01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34D-A04F-4DC6-B1DB-5023300D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F722-DCDE-47CC-A4B8-8C87C07F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F04-FA53-4368-B537-E4AF2F6E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C33-4481-4C79-A585-9CE6716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CAF-E9AE-43C5-8DD9-AF80D63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FE7-CDFB-46EE-B1B2-79C84A2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295-A566-4CBE-A332-EAE6322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839-123E-4937-8063-A1557830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D10-7FD7-4237-AD81-3E2306B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94F-2770-4EC3-B1EA-292B6DFA2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E0FF-C3AD-4618-A3C6-6B1932E1E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eec94"/>
                </a:solidFill>
                <a:latin typeface="Times New Roman"/>
              </a:rPr>
              <a:t>Toamna se numără boboci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narea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şi scădere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u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r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naturale de la 0 l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ompararea şi ordonarea numerelor natura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ranjăm numere în şiruri crescătoare şi descrescăto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Numărăm după reguli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ontinuăm şiruri înce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657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Adunăm şi scădem până la 3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dunări şi scăderi fără trecere peste or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dunări şi scăderi cu trecere peste or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flarea termenului necunosc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743200" cy="203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457200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26668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2860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26668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971800" cy="19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81680" y="4572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PROIE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ATEMATICA  ÎN  MESER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76228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14640" y="2467080"/>
            <a:ext cx="1314720" cy="192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91320" y="2590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Rezolvăm problem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353040" cy="32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97120" y="16765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ntem mai de</a:t>
            </a: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ştepţ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re: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ortofoliul trebuie să conţină un interviu, concluziile privind legătura matematicii cu o meserie aleasă de voi, prezentate sub formă de planşă în ultima oră a unităţii de învăţ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30:13Z</dcterms:created>
  <dc:creator>Albert Hajnalka</dc:creator>
  <dc:description/>
  <dc:language>en-US</dc:language>
  <cp:lastModifiedBy> </cp:lastModifiedBy>
  <dcterms:modified xsi:type="dcterms:W3CDTF">2010-09-13T13:29:08Z</dcterms:modified>
  <cp:revision>4</cp:revision>
  <dc:subject/>
  <dc:title>Toamna se numără bobocii</dc:title>
</cp:coreProperties>
</file>